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1538836-0B6B-41C2-9AEC-4D8A7B737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C1EC0F9-2BD6-4A5D-8D21-A99200DA3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B30E460-02C8-4BE0-8EC7-13C32B1FD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674EDDC-6F9D-4FE1-9561-C5E534995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E66BFFC-F04D-4F66-AA79-982A96806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4693533-8C9C-4737-8515-10295941C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A6C1C37-987A-499F-9F39-3D3698988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372D7B4-61D9-4ACA-A901-F406AE5E7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2B1D1D0-2121-496D-BA65-7E936B8A4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7BEC95F-9D44-42BC-895F-6B8140802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95B5B09-C892-4225-A0D0-CCD4D8EE2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9D05881-D92E-4C9E-B014-FD973668C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1443DF1-01D2-4B2D-A20A-BA54B181C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DDACB99-C9BB-4FED-863A-E7B2753E1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92D5631-7D0C-4F1D-BF66-DCFDC4245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2F920B1-982B-4083-8550-354BC326B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CD28E99-A719-4E03-9F20-DD6E60EFF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F7BF376-B9A2-4504-9381-751C54B49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F8D9A66-1166-4625-91CA-468F53CC2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CAD3077-50AA-4E08-89AE-B940096FD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FAE2913-6EA9-425C-AB93-53C230EA6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577961C-6E4B-4B40-9573-EA812FC4E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580ED00-96B3-458F-9855-221931260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2F2C2D7-B490-4816-96AD-C61783495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1943753-F38E-4D26-B351-70101C73B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DF91367-8105-4811-9F4D-C1783D114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2D3ECED-3E3F-4781-A0F4-89EEE5CF2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5571B4C-B6A4-42C3-B581-E93A9AB51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B0CAD33-08B3-436B-9EE9-B66732F98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4913EEB-5F3A-488E-B22D-1E2A7F7BA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B18D911-A329-4983-9AC1-F0765FC63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02A58B6-0989-4BE3-82EB-52B853DB3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CD69-9824-49A1-A8D4-4C58190AA58C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3" name="Picture 1027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609480" y="1087560"/>
            <a:ext cx="7925040" cy="46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5" name="Picture 1027" descr="D:\My Documents\Cis2\CIS2 pub\Volume6\wmf\00007359.wmf"/>
          <p:cNvPicPr/>
          <p:nvPr/>
        </p:nvPicPr>
        <p:blipFill>
          <a:blip r:embed="rId1"/>
          <a:stretch/>
        </p:blipFill>
        <p:spPr>
          <a:xfrm>
            <a:off x="685800" y="-7920"/>
            <a:ext cx="8077320" cy="6281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8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56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Freeform 166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Freeform 167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Freeform 168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Freeform 169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Freeform 170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Line 171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9" name="Line 172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Line 173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Freeform 174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Freeform 175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Line 176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Line 177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Line 178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179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Rectangle 180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8" name="Rectangle 181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Rectangle 184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Freeform 185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Freeform 186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Freeform 187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Freeform 188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Freeform 189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Line 190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Line 191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Line 192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Freeform 193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Freeform 194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Line 195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Line 196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Line 197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Rectangle 198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Rectangle 199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Rectangle 200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Rectangle 201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Rectangle 202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Rectangle 203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Line 204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Line 205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Freeform 206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Freeform 207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Freeform 208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Freeform 209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Line 210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Line 211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Line 212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Line 213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Line 214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Line 215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Line 216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Line 217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Line 218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Line 219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Line 220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Line 221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Line 222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Line 223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Line 224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Rectangle 225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Rectangle 226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Rectangle 227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Rectangle 228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Rectangle 229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Rectangle 230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Rectangle 231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Rectangle 232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Rectangle 233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Rectangle 234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Rectangle 235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Rectangle 236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Rectangle 237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Rectangle 238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Rectangle 239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Rectangle 240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8" name="Rectangle 241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028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Freeform 1029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Freeform 1030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Line 1034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Line 1035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4" name="Line 1036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Rectangle 1039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Rectangle 1040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7" name="Rectangle 1041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8" name="Rectangle 1042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Rectangle 1043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0" name="Rectangle 1044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Rectangle 1045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Rectangle 1046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Rectangle 1047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Rectangle 1048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Rectangle 1049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" name="Rectangle 1050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Rectangle 1051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Rectangle 1052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9" name="Rectangle 1053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Rectangle 1054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Rectangle 1055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Rectangle 1056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Rectangle 1057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Rectangle 1058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Rectangle 1059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Rectangle 1060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Freeform 1061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Freeform 1062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Line 1063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" name="Line 1064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1" name="Line 1065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Line 1066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Line 1067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4" name="Line 1068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Line 1069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" name="Line 1070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8" name="Freeform 1167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Freeform 1168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0" name="Freeform 1169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Freeform 1170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Freeform 1171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Line 1172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Line 1173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Line 1174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Freeform 1175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Freeform 1176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Line 1177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Line 1178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Line 1179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Rectangle 1180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Rectangle 1181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Rectangle 1182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Rectangle 1183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Rectangle 1184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Rectangle 1185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Freeform 4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Freeform 5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Freeform 6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Freeform 7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Freeform 8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Line 10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Freeform 12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Freeform 13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Line 14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0" name="Line 16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1" name="Freeform 17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2" name="Freeform 18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Freeform 19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" name="Freeform 20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5" name="Freeform 21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6" name="Line 22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Line 23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Freeform 24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Freeform 25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0" name="Line 26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Line 27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2" name="Line 28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3" name="Line 29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4" name="Line 30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Freeform 31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6" name="Freeform 32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Freeform 33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Freeform 34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Line 35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Line 36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1" name="Line 37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Line 38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Line 39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Line 40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5" name="Line 41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Line 42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Line 43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Line 44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Line 45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0" name="Line 46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1" name="Line 47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2" name="Line 48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3" name="Line 49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5" name="Rectangle 51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6" name="Rectangle 52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Rectangle 53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Line 54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Rectangle 55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Rectangle 56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Rectangle 57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Rectangle 58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Rectangle 59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Rectangle 60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Line 106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Rectangle 108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Rectangle 109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Rectangle 110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9" name="Rectangle 111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Rectangle 112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Rectangle 113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Rectangle 114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3" name="Line 115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Line 117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5" name="Line 118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Rectangle 119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7" name="Rectangle 120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Rectangle 121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Rectangle 122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Rectangle 123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Rectangle 124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Rectangle 125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Rectangle 126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Rectangle 127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Rectangle 128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6" name="Rectangle 129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7" name="Rectangle 130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Rectangle 131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9" name="Rectangle 132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0" name="Group 173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681" name="Freeform 141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2" name="Line 142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3" name="Line 143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4" name="Freeform 144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5" name="Line 145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6" name="Line 146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87" name="Rectangle 147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8" name="Rectangle 148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Line 149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Line 150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Line 151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Line 152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3" name="Rectangle 153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Rectangle 154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Line 155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Line 156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Line 157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Line 158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Rectangle 159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Rectangle 160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Freeform 61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Freeform 62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Freeform 63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Freeform 64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Freeform 65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7" name="Freeform 66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8" name="Line 67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9" name="Line 68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0" name="Line 69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1" name="Freeform 70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2" name="Freeform 71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3" name="Line 72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4" name="Line 73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5" name="Line 74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6" name="Line 75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7" name="Line 76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Line 77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9" name="Line 78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0" name="Line 79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1" name="Rectangle 80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2" name="Rectangle 81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3" name="Rectangle 82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Rectangle 83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5" name="Rectangle 84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Rectangle 85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7" name="Rectangle 86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Rectangle 87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Rectangle 88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Rectangle 89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Rectangle 90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Rectangle 91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Rectangle 92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Rectangle 93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Rectangle 94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Rectangle 95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Freeform 96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Freeform 97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Line 98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Line 99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Freeform 100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Freeform 101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Line 102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Line 103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Line 104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Line 105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Line 106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Line 107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Rectangle 108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0" name="Rectangle 109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Rectangle 110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Rectangle 111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Rectangle 112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Rectangle 113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5" name="Rectangle 114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Line 115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Line 116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Line 117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Line 118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Line 135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1" name="Group 173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762" name="Freeform 133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3" name="Line 134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4" name="Freeform 136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5" name="Line 137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66" name="Line 138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Rectangle 139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8" name="Rectangle 140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Line 161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Line 162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1" name="Line 163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Line 164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Rectangle 165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Rectangle 166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Line 167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6" name="Line 168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Line 169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8" name="Line 170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9" name="Rectangle 171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172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2" name="Picture 3" descr="D:\My Documents\Cis2\CIS2 pub\Volume6\EX2-asa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4" name="Picture 3" descr="D:\My Documents\Cis2\CIS2 pub\Volume6\EX2-moments.bmp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6" name="Picture 3" descr="D:\My Documents\Cis2\CIS2 pub\Volume6\EX2-disp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8" name="Picture 3" descr="D:\My Documents\Cis2\CIS2 pub\Volume6\EX2-grph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0" name="Picture 3" descr="D:\My Documents\presents\Workshop3\RamCaseStudy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3" name="Picture 19" descr="D:\My Documents\presents\Workshop3\DesignDataCaseStudy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20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97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0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2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05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8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0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12" name="Group 630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813" name="Line 4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4" name="Line 5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6" name="Line 7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8" name="Line 9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0" name="Line 11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1" name="Line 12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2" name="Line 13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3" name="Line 14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4" name="Line 15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5" name="Line 16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6" name="Line 17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7" name="Line 18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8" name="Line 19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9" name="Line 20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0" name="Line 21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1" name="Line 22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2" name="Freeform 23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3" name="Freeform 24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4" name="Line 25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5" name="Freeform 26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6" name="Line 27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7" name="Line 28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8" name="Line 29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9" name="Line 30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0" name="Line 31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1" name="Line 32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2" name="Freeform 33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3" name="Freeform 34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4" name="Freeform 35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5" name="Line 36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6" name="Line 37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7" name="Freeform 38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8" name="Line 39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9" name="Freeform 40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0" name="Line 41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1" name="Line 42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2" name="Freeform 43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3" name="Line 44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4" name="Line 45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5" name="Line 46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6" name="Line 47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7" name="Line 48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8" name="Line 49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9" name="Line 50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0" name="Line 51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1" name="Line 52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2" name="Line 53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3" name="Line 54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4" name="Line 55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5" name="Line 56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6" name="Line 57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7" name="Line 58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8" name="Line 59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9" name="Line 60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0" name="Line 61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1" name="Line 91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2" name="Line 92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3" name="Line 93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4" name="Line 117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5" name="Line 118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6" name="Line 119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7" name="Line 120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8" name="Line 121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9" name="Line 122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0" name="Line 123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1" name="Line 124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2" name="Line 125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3" name="Line 126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4" name="Line 127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5" name="Line 128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6" name="Line 129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7" name="Line 130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8" name="Line 131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9" name="Line 132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0" name="Line 133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1" name="Line 134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2" name="Line 135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3" name="Line 136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4" name="Line 137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5" name="Line 138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6" name="Line 139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7" name="Line 140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8" name="Line 141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9" name="Line 142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0" name="Line 143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1" name="Line 144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2" name="Line 145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3" name="Line 146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4" name="Line 147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5" name="Line 148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6" name="Line 149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7" name="Line 150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8" name="Line 151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9" name="Line 152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0" name="Line 153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1" name="Line 154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2" name="Line 155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3" name="Line 156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4" name="Line 359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5" name="Line 360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6" name="Line 361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7" name="Line 362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8" name="Line 363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9" name="Line 374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0" name="Line 375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1" name="Line 376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2" name="Line 377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3" name="Line 378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4" name="Line 379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5" name="Line 380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6" name="Line 381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7" name="Line 382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8" name="Line 383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9" name="Line 384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0" name="Line 385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1" name="Line 386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2" name="Line 387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3" name="Line 388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4" name="Line 389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5" name="Line 390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6" name="Line 391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7" name="Line 392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8" name="Line 393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9" name="Line 394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0" name="Line 395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1" name="Line 396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2" name="Line 397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3" name="Line 398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4" name="Line 399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5" name="Line 400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6" name="Line 401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7" name="Line 402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8" name="Freeform 403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9" name="Line 404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0" name="Line 406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1" name="Freeform 407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2" name="Line 408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3" name="Freeform 409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4" name="Line 410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5" name="Line 411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6" name="Line 412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7" name="Line 413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8" name="Line 414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9" name="Line 415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0" name="Line 416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1" name="Line 417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2" name="Line 418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3" name="Line 419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4" name="Line 420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5" name="Line 421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6" name="Line 422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7" name="Line 423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8" name="Line 424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9" name="Line 425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0" name="Line 426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1" name="Line 427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2" name="Line 428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3" name="Line 429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4" name="Line 430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5" name="Line 431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6" name="Line 432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7" name="Line 433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8" name="Line 434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9" name="Line 435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0" name="Line 436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1" name="Line 437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2" name="Line 438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3" name="Line 439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4" name="Line 440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5" name="Line 441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6" name="Line 442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7" name="Line 443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8" name="Line 444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9" name="Line 445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0" name="Line 446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1" name="Line 447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2" name="Line 448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3" name="Line 449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4" name="Line 450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5" name="Line 451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6" name="Line 452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7" name="Line 453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8" name="Line 454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9" name="Line 455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0" name="Line 456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1" name="Line 467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2" name="Line 468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3" name="Line 469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4" name="Line 470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5" name="Line 471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6" name="Line 472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7" name="Line 473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8" name="Line 474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9" name="Line 475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0" name="Line 476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1" name="Line 477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2" name="Line 478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3" name="Line 479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4" name="Line 480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5" name="Line 481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6" name="Line 482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7" name="Line 483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8" name="Line 484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9" name="Line 485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0" name="Line 486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1" name="Line 487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2" name="Line 488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3" name="Line 489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4" name="Line 490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5" name="Line 491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6" name="Line 492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7" name="Line 493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8" name="Line 494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9" name="Line 495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0" name="Line 496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1" name="Line 497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2" name="Line 498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3" name="Line 499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4" name="Line 500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5" name="Line 501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6" name="Line 502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7" name="Line 503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8" name="Line 504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9" name="Line 505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0" name="Line 506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1" name="Line 507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2" name="Line 508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3" name="Line 509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4" name="Freeform 576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5" name="Line 577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6" name="Line 578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7" name="Rectangle 579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8" name="Freeform 580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9" name="Line 581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0" name="Line 582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1" name="Rectangle 583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2" name="Freeform 584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3" name="Line 585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4" name="Line 586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5" name="Rectangle 587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6" name="Freeform 588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7" name="Line 589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8" name="Line 590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9" name="Rectangle 591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0" name="Line 596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1" name="Freeform 597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2" name="Line 598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3" name="Freeform 599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4" name="Line 600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5" name="Freeform 601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6" name="Line 602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7" name="Freeform 603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8" name="Line 604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9" name="Line 605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0" name="Line 607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1" name="Line 608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2" name="Line 609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3" name="Line 610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4" name="Line 611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5" name="Line 612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6" name="Line 613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7" name="Line 614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8" name="Rectangle 615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9" name="Rectangle 616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0" name="Freeform 617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1" name="Rectangle 618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2" name="Rectangle 619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3" name="Freeform 621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4" name="Line 622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5" name="Line 623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6" name="Rectangle 624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8" name="Line 62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Line 63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0" name="Freeform 64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1" name="Line 65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2" name="Freeform 66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3" name="Line 67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Freeform 68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Line 69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Line 70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Freeform 71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Line 72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9" name="Line 73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0" name="Line 74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1" name="Line 75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2" name="Line 76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3" name="Line 77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4" name="Line 78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5" name="Line 79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6" name="Line 80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7" name="Line 81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8" name="Line 82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9" name="Line 83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0" name="Line 84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1" name="Line 85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2" name="Line 86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3" name="Line 87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4" name="Line 88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Line 89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6" name="Line 90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7" name="Line 94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8" name="Line 95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9" name="Line 96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0" name="Line 97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1" name="Line 98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2" name="Line 99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3" name="Line 100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4" name="Line 101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5" name="Line 102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6" name="Line 103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7" name="Line 104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8" name="Line 105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9" name="Line 106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Line 107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Line 108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Line 109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3" name="Line 110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Line 111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Line 112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6" name="Line 113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Line 114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8" name="Line 115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9" name="Line 116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0" name="Line 157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1" name="Line 158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2" name="Line 159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3" name="Line 160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4" name="Line 161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5" name="Line 162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6" name="Line 163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7" name="Line 164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8" name="Line 165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9" name="Line 166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0" name="Line 167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1" name="Line 168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2" name="Line 169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3" name="Line 170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4" name="Line 171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5" name="Line 172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6" name="Line 173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7" name="Line 174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8" name="Line 175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9" name="Line 176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0" name="Line 177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1" name="Line 178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2" name="Line 179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3" name="Line 180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4" name="Line 181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5" name="Line 182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6" name="Line 183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7" name="Line 184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8" name="Line 185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9" name="Line 186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0" name="Line 187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1" name="Line 188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2" name="Line 189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3" name="Line 190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4" name="Line 191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5" name="Line 192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6" name="Line 193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7" name="Line 194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8" name="Line 195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9" name="Line 196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0" name="Line 197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1" name="Line 198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2" name="Line 199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3" name="Line 200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4" name="Line 201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5" name="Line 202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6" name="Line 203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7" name="Line 205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8" name="Line 206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9" name="Line 207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0" name="Line 208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1" name="Line 209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2" name="Line 210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3" name="Line 211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4" name="Line 212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5" name="Line 213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6" name="Line 214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7" name="Line 215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8" name="Line 216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9" name="Line 217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0" name="Line 218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1" name="Line 219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2" name="Line 220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3" name="Line 221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4" name="Line 222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5" name="Line 223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6" name="Line 224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7" name="Line 225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8" name="Line 226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9" name="Line 227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0" name="Line 228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1" name="Line 229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2" name="Line 230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3" name="Line 231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4" name="Line 232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5" name="Line 233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6" name="Line 234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7" name="Line 235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8" name="Line 236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9" name="Line 237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0" name="Line 238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1" name="Line 239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2" name="Line 240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3" name="Line 241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4" name="Line 242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5" name="Line 243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6" name="Line 244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7" name="Line 245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8" name="Line 246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9" name="Line 247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0" name="Line 248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1" name="Line 249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2" name="Line 250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3" name="Line 251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4" name="Line 252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5" name="Line 253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6" name="Line 254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7" name="Line 255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8" name="Line 256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9" name="Line 257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0" name="Line 258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1" name="Line 259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2" name="Line 260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3" name="Line 261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4" name="Line 262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5" name="Line 263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6" name="Line 264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7" name="Line 265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8" name="Line 266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9" name="Line 267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0" name="Line 268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1" name="Line 269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2" name="Line 270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3" name="Line 271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4" name="Line 272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5" name="Line 273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6" name="Line 274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7" name="Line 275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8" name="Line 276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9" name="Line 277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0" name="Line 278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1" name="Line 279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2" name="Line 280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3" name="Line 281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4" name="Line 282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5" name="Line 283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6" name="Line 284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7" name="Line 285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8" name="Line 286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9" name="Line 287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0" name="Line 288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1" name="Line 289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2" name="Line 290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3" name="Line 291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4" name="Line 292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5" name="Line 293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6" name="Line 294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7" name="Line 295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8" name="Line 296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9" name="Line 297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0" name="Line 298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1" name="Line 299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2" name="Line 300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3" name="Line 301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4" name="Line 302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5" name="Line 303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6" name="Line 304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7" name="Line 305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8" name="Line 306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9" name="Line 307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0" name="Line 308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1" name="Line 309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2" name="Line 310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3" name="Line 311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4" name="Line 312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5" name="Line 313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6" name="Line 314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7" name="Line 315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8" name="Line 316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9" name="Line 317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0" name="Line 318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1" name="Line 319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2" name="Line 320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3" name="Line 321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4" name="Line 322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5" name="Line 323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6" name="Line 324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7" name="Line 325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8" name="Line 326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9" name="Line 327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0" name="Line 328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1" name="Line 329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2" name="Line 330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3" name="Line 331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4" name="Line 332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5" name="Line 333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6" name="Line 334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7" name="Line 335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8" name="Line 336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9" name="Line 337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0" name="Line 338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1" name="Line 339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2" name="Line 340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3" name="Line 341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4" name="Line 342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5" name="Line 343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6" name="Line 344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7" name="Line 345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8" name="Line 346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9" name="Line 347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0" name="Line 348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1" name="Line 349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2" name="Line 350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3" name="Line 351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4" name="Line 352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5" name="Line 353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6" name="Line 354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7" name="Line 355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8" name="Freeform 356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9" name="Line 357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0" name="Line 358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1" name="Line 364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2" name="Line 365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3" name="Line 366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4" name="Line 367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5" name="Line 368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6" name="Line 369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7" name="Line 370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8" name="Line 371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Line 372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0" name="Line 373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1" name="Line 457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2" name="Line 458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3" name="Line 459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4" name="Line 460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5" name="Line 461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6" name="Line 462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7" name="Line 463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8" name="Line 464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9" name="Line 465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0" name="Line 466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1" name="Line 511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2" name="Line 512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3" name="Line 513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4" name="Line 514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5" name="Line 515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6" name="Line 516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7" name="Line 517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8" name="Line 518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9" name="Line 519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0" name="Line 520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1" name="Line 521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2" name="Line 522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3" name="Line 523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4" name="Line 524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5" name="Line 525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6" name="Line 526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7" name="Line 527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8" name="Line 528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9" name="Line 529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0" name="Line 530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1" name="Line 531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2" name="Line 532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3" name="Line 533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4" name="Line 534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5" name="Line 535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6" name="Line 536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7" name="Line 537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8" name="Line 538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9" name="Line 539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0" name="Line 540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1" name="Line 541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2" name="Line 542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3" name="Line 543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4" name="Line 544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5" name="Line 545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6" name="Line 546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7" name="Line 547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8" name="Line 548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9" name="Line 549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0" name="Line 550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1" name="Line 551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2" name="Line 552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3" name="Line 553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4" name="Line 554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5" name="Line 555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6" name="Line 556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7" name="Line 557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8" name="Line 558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9" name="Line 559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0" name="Line 560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1" name="Line 561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2" name="Freeform 562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3" name="Line 563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4" name="Line 564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5" name="Line 565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6" name="Freeform 566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7" name="Line 567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8" name="Line 568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9" name="Line 569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0" name="Freeform 570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1" name="Line 571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2" name="Line 572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3" name="Line 573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4" name="Rectangle 574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5" name="Rectangle 575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6" name="Freeform 592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7" name="Line 593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8" name="Line 594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9" name="Rectangle 595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0" name="Rectangle 620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1" lang="en-US" sz="23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1" name="Line 625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2" name="Line 626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3" name="Line 627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4" name="Line 628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5" name="Line 629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7" name="Picture 3" descr="D:\My Documents\Cis2\CIS2 pub\Volume6\wmf\00007352.wmf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9" name="Picture 3" descr="D:\My Documents\Cis2\CIS2 pub\Volume6\wmf\00007353.wmf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1" name="Picture 2051" descr="D:\My Documents\Cis2\CIS2 pub\Volume6\wmf\00007356.wmf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3" name="Picture 3" descr="D:\My Documents\presents\Workshop3\DesignDataDetail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Freeform 8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Freeform 10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Freeform 13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2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Freeform 24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Freeform 26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Freeform 29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0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Line 36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37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38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39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Freeform 40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Line 41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Freeform 42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3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4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Freeform 45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6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47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48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Line 50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1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Line 52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3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4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5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Freeform 56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Line 57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Freeform 58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59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0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Freeform 61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2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3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4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5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Line 66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67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Line 68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69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0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1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Freeform 72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Line 73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Freeform 74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5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6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Freeform 77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78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79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0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1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82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3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Line 84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5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6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87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Freeform 88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Line 89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Freeform 90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1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2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Freeform 93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4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5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6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97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98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99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0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1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2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3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4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5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6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07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08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09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Line 110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1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2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Line 113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Freeform 114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Line 115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Line 116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17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Line 118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19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0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2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3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4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5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6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27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28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29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0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1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2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3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4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5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6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137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Rectangle 138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Rectangle 139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Rectangle 140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Freeform 141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Freeform 142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Line 143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Line 144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Rectangle 145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6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Freeform 147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Freeform 148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Line 149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Line 15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Rectangle 151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2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Freeform 153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Freeform 154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Line 155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Line 156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Rectangle 157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58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Freeform 159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Freeform 160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Line 161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Line 162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Rectangle 163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Line 164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Freeform 243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244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Line 245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Rectangle 24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24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Freeform 24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Freeform 25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Line 25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Line 25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Rectangle 25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25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Freeform 25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Freeform 25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Line 25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Line 25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Rectangle 25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26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Freeform 26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Freeform 26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Line 26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Line 26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Rectangle 26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Line 26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Freeform 26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Freeform 26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Line 26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Rectangle 271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Line 272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Rectangle 326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Freeform 147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148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Line 149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Rectangle 151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52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Freeform 159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Freeform 160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Line 161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Line 162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3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64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Rectangle 165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Rectangle 166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Rectangle 167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168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169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170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Line 171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172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Line 173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174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Freeform 175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176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177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178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Line 179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180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Freeform 181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182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Freeform 183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184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185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186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187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188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189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Line 190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191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Line 192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193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Freeform 194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195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196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197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Line 198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199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Freeform 200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201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Freeform 202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203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205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206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Line 207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208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Line 209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210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Freeform 211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212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213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214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Line 215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216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Freeform 217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218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Freeform 219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220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221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222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Line 223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Line 224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225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226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Freeform 227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228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Line 229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230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231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Freeform 232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Freeform 233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234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235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236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237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238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Line 239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Line 240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241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242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Freeform 273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274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Line 275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276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277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Freeform 278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Freeform 279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280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281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282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283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284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Line 285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Line 286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287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288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Freeform 289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290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Line 291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292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293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Freeform 294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Freeform 295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296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297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298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299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300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Line 301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Line 302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303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304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Freeform 305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306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Line 307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308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309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Freeform 310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Freeform 311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312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313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314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315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316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317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Line 318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Line 319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Line 320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Line 321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322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Rectangle 323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Rectangle 324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Rectangle 325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Rectangle 327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5" name="Picture 3" descr="D:\My Documents\Cis2\CIS2 pub\Volume6\wmf\00007347.wmf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7" name="Picture 3" descr="D:\My Documents\Cis2\CIS2 pub\Volume6\wmf\00007348.wmf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9" name="Picture 3" descr="D:\My Documents\Cis2\CIS2 pub\Volume6\wmf\00007349.wmf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1" name="Picture 1027" descr="D:\My Documents\Cis2\CIS2 pub\Volume6\wmf\00007357.wmf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956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42Z</dcterms:modified>
  <cp:revision>8</cp:revision>
  <dc:subject/>
  <dc:title>CIS/2 Implementation Workshop III,  3-7 April 2000, Ascot</dc:title>
</cp:coreProperties>
</file>